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8EFAA-B7EF-4C10-9546-99280625BC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C0EEC-91E4-46AF-8254-3E7C10D4A8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ECBC8-AB13-4B37-95E9-6EE5F58448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E8E0C3-04D7-4192-AC48-9BFCE02D97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7E6578-7F1F-41A6-A03A-E37ADD98DB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CEDEA-A10A-45D2-BCE4-BB5758A6D6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4A9D2B-DFE7-4FE5-ADCA-AF0EF445360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CA8CF-3000-4E41-AA9C-EBB5BD4D6B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D52D3-48BA-44F5-A2CB-A8E2B49CAE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1127-5041-4F9B-A878-2E0CB2A1B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EDDD9-AD64-447A-A773-A721085B312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63E9-5191-4A95-B770-B2D98064A9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9F91-29E7-4372-B61A-93F6C95C65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2A11-93BF-4C19-8629-507901BD95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CF6E-2569-44B5-A13E-5DC26E2366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CBAB-F16D-45B2-B47C-69586F11FF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2630-6506-4111-9746-48C73CAEF6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DBD4-6308-47FE-BAB3-280D591107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DB30-4503-4198-9FC9-B130D343F7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96733-FC2D-4454-B41D-21EFAAB01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870A-EC66-450A-8E3A-751303C2FA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204F2-F33E-451A-88A5-DADF412C88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4D0EC-81C8-4949-A549-E74CBDDE77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D9AEB-AD72-44A9-A058-84960233E5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734C7-EBEE-4AAD-B417-7899D88D0E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BC081-5CA6-4AB2-960A-DAED44FE79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EB9C6-253A-4AB7-A471-D640426A67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7BDB7-080C-49F1-AB8D-A3E62780D2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7795B-55B6-4D61-8424-F0DB4B705C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25578-BB9C-4F7F-AA5F-1AF7C97D6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E020-762C-401A-9EEE-82CFB8708B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D8AF5-1F6B-477E-9F99-5FD9FF10AA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70CFD-FA16-416C-A534-C08599497F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F8781-3C94-4759-A9F9-14FB0C126E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5ADD-1794-45F1-86B5-3B2381D663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2A9E-BC93-41FD-A3F3-4398DF8144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6021-1DED-49FF-9529-D48417D1C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AF58-DC25-48D7-8187-648824E636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A5A6-8DC9-41D1-9A56-97EC5B451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FDFF-DECF-47CC-8BE3-633AD582B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0F4B-0C86-413C-A80F-C92688CCD9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EB3F-055D-4E22-A4E5-6AD6CBF03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0BBD-C717-4B51-8F74-A57CC8DD25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EB69-0ACE-4729-99C5-27545DDEBF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7FCA-D6CE-4B7C-BD5F-B8CD02F51E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45711-1C2F-4D16-9332-7661213338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1AF5A-2A80-4FEE-9887-8E5BEADCA4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09DD-3F80-4388-AC6E-A9D0A7C65F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273F3-3387-467F-9368-01F92C039D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0E730-2069-4EED-A12B-EF9DF204C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EFC21-39B9-4A45-A4A8-D15C67780C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7F23-616B-448A-8B43-1A60973C9B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35F83-98A1-4C42-9550-5219D78ED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3741-69E0-4109-B024-CBC081829E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620E8-0269-4FE0-ADA6-1EC4E63EFF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7E2AB-C85A-4C11-A31E-4BDA3B852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5C282-4F83-4371-8F45-2EF9D778CC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1DD-8554-4963-8E03-638376C1AC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E0E-01AD-4011-98AC-79CD247276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7462-AAA4-4DFA-A6CA-CB1729BF5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6088-DDA0-404E-996D-CAD9C67D13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4CF4-3E76-4EDD-9D8F-3FA46970E9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ADBA-79B2-449D-983E-43802A6579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9821-B196-49A6-8707-EC54B886B9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878-9F5F-4BF4-9896-532D57988A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12A-63F4-4BCC-83CE-B9E54DEE1A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AF2-B87F-4E2C-9290-A0718D0680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87D-8652-4CE9-B11A-A87E7EDC09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FAC-BE24-4912-8E70-3F1EC9FCD2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36BB0-C130-4920-BC29-7F150EBA5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30B49-4AFE-425A-B3BF-381FF18AFB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052D1-C60E-4E83-9061-0AC0ACDF7B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B1F14-9B50-48E2-983E-4B64CABDA8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77A81-50AD-4BC0-AE13-FD629A1A83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C03F6-9F86-40CF-BF21-F9626CC0E1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0E941-D441-4EC9-AAFE-ED7BA8754F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323FB-8FAC-4050-945E-D244CBE11E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1F7C6-25BF-497C-9E4F-E6CCF86191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7C599-C7C2-4542-B3F6-EBB0F8A397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93340-24A8-488D-9AF8-6109FA79C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218C3-CFCC-455C-AAB0-9D3CD4FA8E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9384F-C0F5-4502-89E8-0EDAF2D41C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9F7DB-A72A-4A44-BA0E-F1B1437B84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4F09D-D9E4-4712-A1D2-735AD20198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2BEFC-2008-4127-8AFB-3DB8E1CB36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934DB-C592-489B-A07D-30DEAD5411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DFCC1-E84F-4E16-A895-14381A428E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0092F-4B68-4347-BF5E-E0E0E1E204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126D5-A6D4-41E4-A56B-E083EE4B92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4D907-F13F-4269-A7EB-D4169F2D2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86744-70FA-40BA-901C-63C035F961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50B13-2B4B-480A-8EF3-4F589805C4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1644B-841D-4C3D-A9CB-1C5F01FAAF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58FB-842C-478C-BFB7-0D5CCF3437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BC8C-D562-47A8-90D3-0B0E3A608C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754C-F013-41E3-9758-3F8026A6F5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AA90-E1C9-44C3-95F1-F0D30BA857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EE43-EE57-4F40-BE72-9038CFBB62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6EBD-1E8D-4FE8-BC4E-ACFFA8BD54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3CE1-153D-4588-B4A2-EC74177AB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B138-5294-40BF-9E86-61D5CFFD6C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9E1C-098A-494C-8892-FAC0C1BA69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AA14-FE69-4CFB-84A0-92C5BE89CF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D3FF-8594-4B0D-B95A-ED3EB30C16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863A-9D04-4C9F-9519-EE1A905440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56905-94D4-4EAC-AFA9-32C09789AC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80B88-67A8-479D-9B6E-F95C24C06F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0D5CA-83B0-4F06-9CC0-A845578AC4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5306-D8E9-4AA6-996E-8A6606DB77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AA653-922B-41D6-87AA-845A39B4F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FFAF6-716E-400B-8115-5A8B33C29B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82136-E29C-4F65-8F0B-D4976C5B91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8B2A9-C5EE-4800-9203-ACCE76420D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1258C-08DF-4830-8DFF-FDC4228116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6CD12-46DD-4488-83AF-9F0053A709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A176A-AD8B-48DB-B61C-D25CA49CB1E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E9D7D-06FF-4B9E-B7E0-22845BAF27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FBF81-2382-4777-B0E4-9AAB46E2A3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DE8F10-191F-447F-998B-BBFE7F2647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902E5-FEE4-4203-A204-44511D74D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D0F-3AA3-48E0-A965-F88B18415CF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2174-C5C5-4204-BC23-C46B6DAA0CA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DD4-4542-49B4-95FC-F7559FD67B3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840-74BE-4B1A-A38E-84AE152BD7F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46F-D052-4BDB-AA15-8C1DD122E3D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E5C-69EF-409C-9E70-5261BDDBB29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C2F6-90E4-40B3-90B0-BD9B647C289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D1C-9A44-4E77-8AD7-0C86FDFE27A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E17-4BE5-415D-9BF2-BD60A2472D4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716-176C-495B-9C7C-B317328755D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87440" y="1311120"/>
            <a:ext cx="8278560" cy="26276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44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corso rivolto a insegnare le basi della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proget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dello sviluppo dei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videog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un attenzione specifica verso i giochi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online multiutent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5" name="Picture 1" descr="logo_bt_800x200.png"/>
          <p:cNvPicPr/>
          <p:nvPr/>
        </p:nvPicPr>
        <p:blipFill>
          <a:blip r:embed="rId2"/>
          <a:stretch/>
        </p:blipFill>
        <p:spPr>
          <a:xfrm>
            <a:off x="6696000" y="5805360"/>
            <a:ext cx="2592360" cy="64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marchio-02.jpg"/>
          <p:cNvPicPr/>
          <p:nvPr/>
        </p:nvPicPr>
        <p:blipFill>
          <a:blip r:embed="rId3"/>
          <a:stretch/>
        </p:blipFill>
        <p:spPr>
          <a:xfrm>
            <a:off x="3276720" y="5805360"/>
            <a:ext cx="36716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468360" y="1125360"/>
            <a:ext cx="835164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2 ore di lezione frontale + 32 ore di laboratori/seminar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inari tenuti da aziende del setto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(Ubisoft, Miletsone, Mixel, etc.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lutazione si basa su un progetto di gruppo (presentato in un evento aperto al pubblico) e un esame orale (in lingua ingles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nformazioni: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onlinegamedesign.ariel.ctu.unimi.i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pong.di.unimi.it/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s://www.facebook.com/groups/PONG.UniM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511200" y="2708280"/>
            <a:ext cx="4114800" cy="2444760"/>
          </a:xfrm>
          <a:prstGeom prst="rect">
            <a:avLst/>
          </a:prstGeom>
          <a:gradFill rotWithShape="0">
            <a:gsLst>
              <a:gs pos="0">
                <a:srgbClr val="9caee5"/>
              </a:gs>
              <a:gs pos="100000">
                <a:srgbClr val="7784ae"/>
              </a:gs>
            </a:gsLst>
            <a:lin ang="5400000"/>
          </a:gradFill>
          <a:ln w="9360">
            <a:solidFill>
              <a:srgbClr val="a5b3d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arte di design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Arial"/>
              </a:rPr>
              <a:t>Background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Cosa è un gioco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Cosa è il divertimento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Arial"/>
              </a:rPr>
              <a:t>(Video)game design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La struttura dei gioch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Il processo di game design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4778280" y="2708280"/>
            <a:ext cx="4114800" cy="244476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100000">
                <a:srgbClr val="a1a1a1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arte di aspetti online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Arial"/>
              </a:rPr>
              <a:t>Background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Che cosa vuol dire giocare online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Storia ed evoluzione dei giochi onlin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Arial"/>
              </a:rPr>
              <a:t>Aspetti tecnici dell’ “essere online”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Che cosa serve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  <a:ea typeface="Arial"/>
              </a:rPr>
              <a:t>Come si gestisce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maresa</cp:lastModifiedBy>
  <cp:lastPrinted>2003-05-08T11:08:41Z</cp:lastPrinted>
  <dcterms:modified xsi:type="dcterms:W3CDTF">2014-07-29T12:17:54Z</dcterms:modified>
  <cp:revision>218</cp:revision>
  <dc:subject/>
  <dc:title>Inserire immagine della locandina, possibilmente in trasparenza e aggiungere Facoltà di Architettura Illustrazione prova di ammissione prof. Silvia Piardi (idem Cedolin)</dc:title>
</cp:coreProperties>
</file>